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C8C-873B-470C-83E0-442EAA85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8D9-A8FF-4387-A41E-504C0C43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713-5B7B-46B4-8EFD-2C9A0C1C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B94-C0CD-47AE-A8F8-DD851939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599-4124-456C-AF12-8AD80DE4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137-8E44-4320-A443-1CBBDBD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F29-F578-4283-A861-5507539E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D5C-2396-46A2-BB6B-5122228E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8EA-2F24-4029-B578-B70AEA6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F4E-5801-422E-A0B5-7FEBAFD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8B5-7872-43A5-9664-DF749B8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6D5-A916-48DA-9282-0BF76E1F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93B6-1FC9-43FC-848B-9E94F4B6B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3:  Revea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yMac, Phiggs, and Joey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1 Solving Equations Using Addition and Sub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+ 6 =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– 6 = -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you must subtract 6 to both side. That will let you cross out 6 and make the 10 a 4. So X =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1 solving equations using addition and sub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4 = 54 – 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4 – 54 = 54 – t – 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58 = - 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8 = 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you do -4 – 54 = 54 – t – 54. then you get – 58 = -t. so you get 58 = 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ving Equations Using Multiplication and Divi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ving Equations Using Multiplication and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4x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4x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4 = 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-1/4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8:53:17Z</dcterms:created>
  <dc:creator>Student</dc:creator>
  <dc:description/>
  <dc:language>en-US</dc:language>
  <cp:lastModifiedBy>Student</cp:lastModifiedBy>
  <dcterms:modified xsi:type="dcterms:W3CDTF">2009-12-09T20:17:59Z</dcterms:modified>
  <cp:revision>6</cp:revision>
  <dc:subject/>
  <dc:title>Chapter 3:  Revealed</dc:title>
</cp:coreProperties>
</file>